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BF7F-AAA0-4777-9FDE-286FBA1878A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EB57-48FC-4C17-86D7-9AE8BB60F27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733-AD1B-44C1-BC24-51EF42EB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58F-9E49-48D6-B5BB-AF4EBBC2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F45-63AF-4008-9718-E83E2F36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DB8-16B9-4BAB-858C-00EE5BA1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9EC-78AE-42E6-A3C4-DE7279A9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9A3-43ED-4E94-B24C-2559BDD7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F81-AA5E-4512-A5C3-732D7AD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FF4-B58A-4AAF-8BAD-B8F22489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ADA-AC34-49F3-9163-1670263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A51-5852-4136-B129-51A8A298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BB9-C204-47D2-BA47-E3D5CD4E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8A6-43DF-4EAB-974E-EEB4718E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E96A-9431-45BB-BCEC-4D41B3F011A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-146160" y="324000"/>
            <a:ext cx="9422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Ti racconto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0" spc="-1" strike="noStrike">
                <a:solidFill>
                  <a:srgbClr val="ffff00"/>
                </a:solidFill>
                <a:latin typeface="LTSalamanderDbl Medium"/>
              </a:rPr>
              <a:t>la croc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4"/>
          <p:cNvSpPr/>
          <p:nvPr/>
        </p:nvSpPr>
        <p:spPr>
          <a:xfrm>
            <a:off x="-601920" y="5013360"/>
            <a:ext cx="1018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L’amore realizzato di Ges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tangolo 3"/>
          <p:cNvSpPr/>
          <p:nvPr/>
        </p:nvSpPr>
        <p:spPr>
          <a:xfrm>
            <a:off x="539640" y="40464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LTSalamanderDbl Medium"/>
              </a:rPr>
              <a:t>Gesto di carit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LTSalamanderDbl Medium"/>
              </a:rPr>
              <a:t>Penso a chi è meno fortunato di m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4"/>
          <p:cNvSpPr/>
          <p:nvPr/>
        </p:nvSpPr>
        <p:spPr>
          <a:xfrm>
            <a:off x="3564000" y="2924280"/>
            <a:ext cx="54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DONO d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THE, CAFF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LTSalamanderDbl Medium"/>
              </a:rPr>
              <a:t>e dello ZUCCH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www.investisicuro.com/wp-content/uploads/2010/11/sugar1.jpg"/>
          <p:cNvPicPr/>
          <p:nvPr/>
        </p:nvPicPr>
        <p:blipFill>
          <a:blip r:embed="rId1"/>
          <a:stretch/>
        </p:blipFill>
        <p:spPr>
          <a:xfrm>
            <a:off x="2195640" y="4869000"/>
            <a:ext cx="1488960" cy="148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ttp://www.caffehaitiroma.it/cms/tools/thumbnail.aspx?f=False&amp;w=180&amp;h=230&amp;img=/UserFiles/Image/Products/66_CONF_con_tazzina.jpg"/>
          <p:cNvPicPr/>
          <p:nvPr/>
        </p:nvPicPr>
        <p:blipFill>
          <a:blip r:embed="rId2"/>
          <a:stretch/>
        </p:blipFill>
        <p:spPr>
          <a:xfrm>
            <a:off x="395280" y="2852640"/>
            <a:ext cx="14763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Lc 19 - Oggi la salvezza è entrata in questa casa2.jpg"/>
          <p:cNvPicPr/>
          <p:nvPr/>
        </p:nvPicPr>
        <p:blipFill>
          <a:blip r:embed="rId1"/>
          <a:stretch/>
        </p:blipFill>
        <p:spPr>
          <a:xfrm>
            <a:off x="0" y="-44280"/>
            <a:ext cx="4800600" cy="690228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4859280" y="274680"/>
            <a:ext cx="4105440" cy="88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Signore Ges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i sappiamo che il Tuo sguar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è sempre sguardo di amor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che i tuoi occ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on giudicano e non condann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ma ci vogliono aiut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a riconoscere ciò che non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00"/>
                </a:solidFill>
                <a:latin typeface="Candara"/>
              </a:rPr>
              <a:t>nella nostra vita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Con tutti hai saputo ricer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il “buono” che c’era nel loro cu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Anche con Zaccheo hai fatto così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hai preferito fare il primo pas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e puntare sul suo deside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di felicità e di gio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a è la logica della CRO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questo è il modo che anche n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vogliamo imparare a viv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questo siamo qu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Candara"/>
              </a:rPr>
              <a:t>per imparare dalla tua CROC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1200960" y="404640"/>
            <a:ext cx="6801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Prim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I SOLDATI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SI DIVIDO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LA TUNIC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LTSalamanderDbl Medium"/>
              </a:rPr>
              <a:t>DI GES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10" descr="Gv 19 - La tunica.jpg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6"/>
          <p:cNvSpPr/>
          <p:nvPr/>
        </p:nvSpPr>
        <p:spPr>
          <a:xfrm>
            <a:off x="7044480" y="2060640"/>
            <a:ext cx="214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 tutto si cons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l’ombra della cro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proprio là dove pi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forte e pot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l’amore di Ges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 dominare sem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ssere il peccat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’uomo tradisce q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more e diventa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egno di division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24"/>
          <p:cNvSpPr/>
          <p:nvPr/>
        </p:nvSpPr>
        <p:spPr>
          <a:xfrm>
            <a:off x="91440" y="4653000"/>
            <a:ext cx="209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cco la tunica di Gesù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gli uom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anno divide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coloro ch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ividono non son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oldati – di cui par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Vangel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i cristiani di oggi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ttore 2 10"/>
          <p:cNvCxnSpPr/>
          <p:nvPr/>
        </p:nvCxnSpPr>
        <p:spPr>
          <a:xfrm flipV="1">
            <a:off x="1979280" y="4941360"/>
            <a:ext cx="2088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Rettangolo 13"/>
          <p:cNvSpPr/>
          <p:nvPr/>
        </p:nvSpPr>
        <p:spPr>
          <a:xfrm>
            <a:off x="6899760" y="692280"/>
            <a:ext cx="11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un vesco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attol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14"/>
          <p:cNvSpPr/>
          <p:nvPr/>
        </p:nvSpPr>
        <p:spPr>
          <a:xfrm>
            <a:off x="930960" y="3645000"/>
            <a:ext cx="127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un sacerd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ortodo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15"/>
          <p:cNvSpPr/>
          <p:nvPr/>
        </p:nvSpPr>
        <p:spPr>
          <a:xfrm>
            <a:off x="995400" y="1268280"/>
            <a:ext cx="117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un pa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protes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tangolo 17"/>
          <p:cNvSpPr/>
          <p:nvPr/>
        </p:nvSpPr>
        <p:spPr>
          <a:xfrm>
            <a:off x="6907680" y="4770360"/>
            <a:ext cx="161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e poi c’è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ombatt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rappres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tutte le ide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totalit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18"/>
          <p:cNvCxnSpPr>
            <a:stCxn id="54" idx="1"/>
          </p:cNvCxnSpPr>
          <p:nvPr/>
        </p:nvCxnSpPr>
        <p:spPr>
          <a:xfrm flipH="1">
            <a:off x="4931640" y="3337560"/>
            <a:ext cx="2088360" cy="3067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sellaDiTesto 1"/>
          <p:cNvSpPr/>
          <p:nvPr/>
        </p:nvSpPr>
        <p:spPr>
          <a:xfrm>
            <a:off x="883440" y="441360"/>
            <a:ext cx="744264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Second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GES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VIE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CROCIFISS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11" descr="Lc 23 - La crocifissione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79640" y="23760"/>
            <a:ext cx="4948200" cy="688356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ttore 2 7"/>
          <p:cNvCxnSpPr/>
          <p:nvPr/>
        </p:nvCxnSpPr>
        <p:spPr>
          <a:xfrm>
            <a:off x="1834920" y="1773000"/>
            <a:ext cx="2161080" cy="4323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CasellaDiTesto 6"/>
          <p:cNvSpPr/>
          <p:nvPr/>
        </p:nvSpPr>
        <p:spPr>
          <a:xfrm>
            <a:off x="73440" y="227160"/>
            <a:ext cx="1796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l quadro tenta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raccontare ciò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esù ve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entre lo sta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inchiodando su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roce: vede il bu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sta avvolge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tutta la terra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vede anche i vo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he lo guardano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11"/>
          <p:cNvSpPr/>
          <p:nvPr/>
        </p:nvSpPr>
        <p:spPr>
          <a:xfrm>
            <a:off x="3924360" y="1187280"/>
            <a:ext cx="203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cuni che guard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on disprezzo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tangolo 13"/>
          <p:cNvSpPr/>
          <p:nvPr/>
        </p:nvSpPr>
        <p:spPr>
          <a:xfrm>
            <a:off x="6912000" y="1557360"/>
            <a:ext cx="21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Alcuni 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non vogliono ve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e si coprono la faccia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14"/>
          <p:cNvSpPr/>
          <p:nvPr/>
        </p:nvSpPr>
        <p:spPr>
          <a:xfrm>
            <a:off x="6948360" y="3789360"/>
            <a:ext cx="21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Alcuni che guard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Gesù con tenerezza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ontempl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l suo amo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tangolo 15"/>
          <p:cNvSpPr/>
          <p:nvPr/>
        </p:nvSpPr>
        <p:spPr>
          <a:xfrm>
            <a:off x="2716200" y="5083200"/>
            <a:ext cx="21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lcuni che osserv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dubbiosi e increduli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sellaDiTesto 16"/>
          <p:cNvSpPr/>
          <p:nvPr/>
        </p:nvSpPr>
        <p:spPr>
          <a:xfrm>
            <a:off x="178920" y="3273480"/>
            <a:ext cx="160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Ed i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con q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o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guar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la cro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Com’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il m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Calibri"/>
              </a:rPr>
              <a:t>sgua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asellaDiTesto 1"/>
          <p:cNvSpPr/>
          <p:nvPr/>
        </p:nvSpPr>
        <p:spPr>
          <a:xfrm>
            <a:off x="1141560" y="476280"/>
            <a:ext cx="691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LTSalamanderDbl Medium"/>
              </a:rPr>
              <a:t>Terza st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TUT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LTSalamanderDbl Medium"/>
              </a:rPr>
              <a:t>COMPIU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magine 13" descr="Gv 19 - Tutto è compiuto.jpg"/>
          <p:cNvPicPr/>
          <p:nvPr/>
        </p:nvPicPr>
        <p:blipFill>
          <a:blip r:embed="rId1"/>
          <a:stretch/>
        </p:blipFill>
        <p:spPr>
          <a:xfrm>
            <a:off x="1332000" y="1125360"/>
            <a:ext cx="6427800" cy="4475520"/>
          </a:xfrm>
          <a:prstGeom prst="rect">
            <a:avLst/>
          </a:prstGeom>
          <a:ln w="0">
            <a:noFill/>
          </a:ln>
        </p:spPr>
      </p:pic>
      <p:sp>
        <p:nvSpPr>
          <p:cNvPr id="73" name="CasellaDiTesto 14"/>
          <p:cNvSpPr/>
          <p:nvPr/>
        </p:nvSpPr>
        <p:spPr>
          <a:xfrm>
            <a:off x="684360" y="189000"/>
            <a:ext cx="76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La figura di Gesù, al centro di questo quadro, è avvolta da un buio profo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È il momento più difficile di Gesù: il suo sguardo cerca il Padre, che non sente vic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Ma il suo rimane il gesto dell’affidamento, della fiducia  profonda, nonostante tut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9"/>
          <p:cNvSpPr/>
          <p:nvPr/>
        </p:nvSpPr>
        <p:spPr>
          <a:xfrm>
            <a:off x="755640" y="573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Questo affidamento di Gesù, questa sua fiducia nel Padre, porta a compimento tutt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storia degli uomini, mostrando loro come i segni della fiducia in Dio che alcuni uom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hanno compiuto nel corso della storia, trovano il loro senso in questo “SI” di Gesù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1"/>
          <p:cNvSpPr/>
          <p:nvPr/>
        </p:nvSpPr>
        <p:spPr>
          <a:xfrm>
            <a:off x="243000" y="1227240"/>
            <a:ext cx="104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Mar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sore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 Ar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d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opo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passagg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el M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Ros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ttangolo 12"/>
          <p:cNvSpPr/>
          <p:nvPr/>
        </p:nvSpPr>
        <p:spPr>
          <a:xfrm>
            <a:off x="-7560" y="3500280"/>
            <a:ext cx="1291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La col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annu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la fine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luv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o non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stanca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fare alle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on l’u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13"/>
          <p:cNvSpPr/>
          <p:nvPr/>
        </p:nvSpPr>
        <p:spPr>
          <a:xfrm>
            <a:off x="7791120" y="1125360"/>
            <a:ext cx="142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l banch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il prof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saia  annu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al pop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n esil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o 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abband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i suoi fig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15"/>
          <p:cNvSpPr/>
          <p:nvPr/>
        </p:nvSpPr>
        <p:spPr>
          <a:xfrm>
            <a:off x="7788240" y="3397320"/>
            <a:ext cx="127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Le opere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misericord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s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ell’u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che si f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di Dio e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ricono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alibri"/>
              </a:rPr>
              <a:t>nel pov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asellaDiTesto 3"/>
          <p:cNvSpPr/>
          <p:nvPr/>
        </p:nvSpPr>
        <p:spPr>
          <a:xfrm>
            <a:off x="-150840" y="40464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ndara"/>
              </a:rPr>
              <a:t>Oggi, Signore abbiamo capito qualcosa di più del tuo a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5"/>
          <p:cNvSpPr/>
          <p:nvPr/>
        </p:nvSpPr>
        <p:spPr>
          <a:xfrm>
            <a:off x="1692360" y="981000"/>
            <a:ext cx="280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ci a non essere ragazz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dividono gli altri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non escludono nessuno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ma aiutaci a diffond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un po’ del tuo am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è per tut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possiamo and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oltre i nostri “gruppetti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er accogliere gli altr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iuta tutti i cristian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 pregare  per l’unità di tut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oloro che credono in Te, Signore nostro Di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7"/>
          <p:cNvSpPr/>
          <p:nvPr/>
        </p:nvSpPr>
        <p:spPr>
          <a:xfrm>
            <a:off x="5183280" y="2676600"/>
            <a:ext cx="37098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lla prossima Settimana San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guardiamo la tua Passi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e la tua croce con fede e devozi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erché possiamo riconosc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nella tua vita donata e nel tuo dol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la firma d’amore di 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che va in cerca di ogni uo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perché lo vuole salva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2"/>
          <p:cNvSpPr/>
          <p:nvPr/>
        </p:nvSpPr>
        <p:spPr>
          <a:xfrm>
            <a:off x="5646240" y="5516640"/>
            <a:ext cx="342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Aiutaci, o Dio, a celeb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con gioia la tua Pasqu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ndara"/>
              </a:rPr>
              <a:t>A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0"/>
          <p:cNvSpPr/>
          <p:nvPr/>
        </p:nvSpPr>
        <p:spPr>
          <a:xfrm>
            <a:off x="2627280" y="4653000"/>
            <a:ext cx="25210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Fa’ che – come Te – possiamo fidarc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di Dio e del suo amor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nche nei momen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in cui facciamo fa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andara"/>
              </a:rPr>
              <a:t>a sentire la sua presenza nella nostra vi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8" descr="Gv 19 - La tunica1.jpg"/>
          <p:cNvPicPr/>
          <p:nvPr/>
        </p:nvPicPr>
        <p:blipFill>
          <a:blip r:embed="rId1"/>
          <a:stretch/>
        </p:blipFill>
        <p:spPr>
          <a:xfrm>
            <a:off x="395280" y="981000"/>
            <a:ext cx="1195560" cy="344808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11" descr="Gv 19 - Tutto è compiuto1.jpg"/>
          <p:cNvPicPr/>
          <p:nvPr/>
        </p:nvPicPr>
        <p:blipFill>
          <a:blip r:embed="rId2"/>
          <a:stretch/>
        </p:blipFill>
        <p:spPr>
          <a:xfrm>
            <a:off x="395280" y="4653000"/>
            <a:ext cx="20988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13" descr="Lc 23 - La crocifissione2.jpg"/>
          <p:cNvPicPr/>
          <p:nvPr/>
        </p:nvPicPr>
        <p:blipFill>
          <a:blip r:embed="rId3"/>
          <a:stretch/>
        </p:blipFill>
        <p:spPr>
          <a:xfrm>
            <a:off x="5219640" y="1135080"/>
            <a:ext cx="350064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20:36:32Z</dcterms:created>
  <dc:creator> </dc:creator>
  <dc:description/>
  <dc:language>en-US</dc:language>
  <cp:lastModifiedBy>Qumran2</cp:lastModifiedBy>
  <dcterms:modified xsi:type="dcterms:W3CDTF">2011-04-11T14:44:48Z</dcterms:modified>
  <cp:revision>90</cp:revision>
  <dc:subject/>
  <dc:title>Diapositiva 1</dc:title>
</cp:coreProperties>
</file>